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0A2-3153-4FA0-A81D-77FC3707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087-82E0-4AE3-B04B-19F80FA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30D-F356-4D69-B22E-1EE9EB0A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3E9-7F80-420B-9406-AD0AE31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AD9E-4494-468D-91D0-A9477F5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AC6A-640B-472D-A147-E50C94E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708-0E38-4FB9-8FD2-B6BD11E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6ADA-5FE4-4CF9-85F1-E5C252C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9C10-57E0-442A-BFA2-18F58F5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91C-5C73-415E-A583-B8A750C0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A7D-F732-42AC-B483-7A0F2B6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9D6-80C9-40A9-A2EE-8552ED7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C37C-002E-40CC-AA1B-AF135FC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4739-0181-429F-8B40-D0812A44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BD3-E3C3-4951-928F-1189691B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BF3-81FA-4BE1-BCC0-D25A836F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A39F-1942-4FA7-B679-31D1547F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B55-67A8-4ABF-BA66-B7332235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C69-6C16-4B29-BF2B-1BAEA782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808-AA7B-4350-B4E3-BC8B7E9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D13-F99E-49A5-BFCA-7A591396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C01-ABBC-492B-8855-54C4325A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4B7-F060-49F9-967D-A847620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27E-0697-4EA6-B140-82C7F3A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5AE-01E2-4359-861B-9EAF1A2B37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A7A-BEDB-4EE8-A703-C07DABF629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idspiration 3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Courtney Henc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Kidspir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designed for K-5 lea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s thinking, literacy, &amp; num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visual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s students as they think creatively and organize ideas to write, comprehend, &amp; communic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you can create a simple dia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name to pro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symb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mbol palette has over 3,000 symb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1 (All about me diagra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picture diagram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ready organized for y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change level of id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change order of id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word to look it 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definition/part of spe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synony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sen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listen to each word/sen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#2 (All about me writing view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pergrouper T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k supergrouper sh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new supergrouper sh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symbols in supergrouper for catego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 3 (Fruits and Vegg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ing activities using the teacher menu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 teacher m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r settings to be sav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word prot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hyperli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ing words or nar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ve project as an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 4 (Elepha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or ti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 #5 - page 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math text bo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-out stamp (page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groupers (page 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ground grid (page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s (page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color ti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Math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e geometry using pattern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re place value with base 10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ize fractions with fraction t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denominators with fraction bo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progression of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se templates come with the softwa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also comes with 2 boo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for helping you get star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with 50 lesson plans for K-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s phonemic awareness, phonics, vocabulary, and comprehen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1:13:41Z</dcterms:created>
  <dc:creator>Kyle</dc:creator>
  <dc:description/>
  <dc:language>en-US</dc:language>
  <cp:lastModifiedBy>Kyle</cp:lastModifiedBy>
  <dcterms:modified xsi:type="dcterms:W3CDTF">2009-04-13T21:32:31Z</dcterms:modified>
  <cp:revision>3</cp:revision>
  <dc:subject/>
  <dc:title>Kidspiration 3</dc:title>
</cp:coreProperties>
</file>